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AC1-07ED-4762-A2CD-EF5280F4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C8F-ECA5-4F5E-92E2-D2076946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3DE-3622-45C8-9902-0DB505CA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179-5EFC-47D9-80E0-A2B737E1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7C7-23BD-48F6-A829-6322AA03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F7A-D36F-4332-B09D-86D15FD9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175-4BD2-4E6E-9B9E-3D6C1BB2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1A4-3958-4B7F-A95B-A34B7B42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66D-336A-4045-B48B-2FED5F31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BA9-AC26-4A47-A355-386097DD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57F-3A81-4252-B8AA-64174903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1BB-BFFC-4221-8D88-D6E10386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F2AB-F418-449F-9B17-CBEF531FBE1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lose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redit Help No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ontext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is is where you are asked something about a particular word or phrase with a difficult meaning. You will have to work out the word’s meaning based on its context. This means you have to work out the word/phrase’s meaning based on the words that surround 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522936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 and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ord Cho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A writer’s word choice is the words that he/she chooses to use in their writing. Sometimes they will use a word to achieve a very particular effect and you could comment on this. Deal with only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two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words at a tim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XAMPLE: Suzanne could only be described as devastated when she received the letter; at least, she became withdrawn and desperately depressed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Comment on how the writer’s word choice shows Suzanne’s feelings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ord Cho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Quote the word that you think is import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mment on the effect of the word – what does it mean and why has it been used here? What is the connotation of 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4724280"/>
          <a:ext cx="8501040" cy="146232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 and 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 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(b) and 10 (b) 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entence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0040" y="15714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entence structure is often asked about at the same time as word choice, but can be the focus of a question on its ow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Here are the things that may be asked about under the term ‘Sentence Structure’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146160" y="1341360"/>
            <a:ext cx="86374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entence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trick is to look at the section and see if anything really stands ou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sider the punctuation, length and type of sentence for a cl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57120" y="4714920"/>
          <a:ext cx="8501040" cy="146376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 (b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(a), 10 (b) i, 11 and 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xplain the writer’s attitud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term ‘attitude’ refers to the writer’s feelings or viewpoint about a certain subj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You should sum up the attitude in one w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Explain how you knew what it w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479736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and 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(a) and (b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xplain the 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is could refer to a poetic technique or a technique of sentence structure. Look for something unusual. You should know these techniques in order to spot them: simile, metaphor, personification, onomatopoeia, alliteration as well as the structure on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2009 Question 1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Link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341000"/>
            <a:ext cx="6624720" cy="31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These will ask you to show a section links to another. They will pick two sections that are different in topic. There will be a phrase/sentence/section which bridges the gap; it links from one topic to anoth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36040" indent="-5360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Quote a word from the link section that points back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36040" indent="-5360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Sum-up the previous topic in your own word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36040" indent="-5360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Quote a word from the link section that points forward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36040" indent="-5360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Sum-up the next topic in your own word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582120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9"/>
          <p:cNvSpPr/>
          <p:nvPr/>
        </p:nvSpPr>
        <p:spPr>
          <a:xfrm>
            <a:off x="6804000" y="1484280"/>
            <a:ext cx="1728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pic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6804000" y="3573360"/>
            <a:ext cx="1728720" cy="79236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pic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7093080" y="2708280"/>
            <a:ext cx="122400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 flipH="1" flipV="1">
            <a:off x="7019640" y="2133360"/>
            <a:ext cx="14436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8244000" y="3141720"/>
            <a:ext cx="73080" cy="57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ive Evid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ll the examiner wants is for you to find a piece of information from the text. At General and Foundation levels it is sometimes enough just to quo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t Credit you need to quote and briefly explain in your own wor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486900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ive Ste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ad the pass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ass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he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Last tip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y referring closely” or “close reference to the text” means QU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Never try to answer from memory: it is called “close reading” because you are expected to be able to answer only after having considered the text closel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Your Credit exam will last 50 minutes – it is up to you to manage your time effectively, to read the passage and to complete your answ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Own Wor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You need to answer in your own words, using your own vocabulary. DO NOT copy your answer from the passa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ave a look at these questions to refresh your memor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57120" y="4714920"/>
          <a:ext cx="8501040" cy="146376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 5, 7, 8 (b), 13 and 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 10, 13 and 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 9, 10 (a), 15, 16 and 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you are asked to “write down an expression” or are looking for a quotation of a certain leng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ow long is an expression? Usually 3-4 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ave a look at these questions to refresh your memor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8360" y="508464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 (c) and 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Last Two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se questions often differ from the rest as they will ask you to think about the passage as a whole and will not focus on any particular paragraph. You will have to select the information you think is importa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57120" y="471492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 and 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igures of Spee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 question may ask you to find or explain a ‘figure of speech’ which is the name for a group of techniques: simile, metaphor and personific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imile: Comparison using like or 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Metaphor: Comparison saying one thing is ano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ersonification: Inanimate object is said to have human characteris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igures of Spee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Figures of speech compare one thing to another and in your answer you will have to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Name the figure of speech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Explain why it is effective – what is one thing like? What is the other thing like? What do they have in common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Have a look at these questions to refresh your memory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57120" y="471492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 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ompare and Contra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Compare a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bus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and a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ca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Contrast an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apple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and an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orange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When you compare something, what are you doing? What are you doing when you contrast something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When you are asked to state a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contrast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, you have to write down a difference you have found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501336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and 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2:17:45Z</dcterms:created>
  <dc:creator>Mrs WM Elrick</dc:creator>
  <dc:description/>
  <dc:language>en-US</dc:language>
  <cp:lastModifiedBy>sbbhayf</cp:lastModifiedBy>
  <dcterms:modified xsi:type="dcterms:W3CDTF">2010-04-27T08:41:51Z</dcterms:modified>
  <cp:revision>9</cp:revision>
  <dc:subject/>
  <dc:title>Close Reading</dc:title>
</cp:coreProperties>
</file>